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519-0BFA-4D81-AE18-BB5BF40D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D374-EC96-4801-8FB9-2FD4349C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BA09A-B8C9-4696-B673-5E50FD6C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5658A-A83A-45D1-AD14-6B828339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8B274-CCBC-466F-A18E-D65D529D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F6D85-680D-4D3D-B081-AC105DB3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E91A0-766D-499C-86F8-68CF3048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09778-9B2F-4B65-9892-31AFDAF3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41C44-E6AE-42D2-BC92-5B127BBF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3DB61-6221-462A-9AA4-555D9E57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54003-53C3-46C6-879B-E84FCFB8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FA1-030B-4787-BB75-A770B4CF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A80-16C1-443D-A4AF-86A4170F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C1A6-BE3E-4593-A6BE-4CE726CA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941D-48FA-46E2-9639-023D0A2D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75ED-01AA-4084-8E0E-223D34D0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D4EC-7E21-499B-90AB-302E8DA7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922C-D22D-47B7-8D1B-20080975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84CC-A788-4013-892E-2BB93E3A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3C83-A945-4A01-8E83-726449E9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9B9-425B-4489-B6F5-D370B511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E77F-D0BD-4ACD-9659-1DDD3C10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4EE5-3042-4DBA-AE54-FE5F7315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C435-7190-4051-B7D9-54D513EA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8BC6-EF73-4F80-834A-68CC7B0A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362A-A6A2-402B-822D-3E5E9762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F042B-EC32-4846-8987-AE4E83E3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B9E60-95C1-426A-9B2F-106BD7D6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FC771-6383-4A9F-80DC-8ADA66C6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A86BC-B90A-44E7-B073-2392A90E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873FF-DFAE-482A-BF8D-CF0652DD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FB7-DC23-4522-96A2-AB02917E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C7404-66FE-4AC3-8E84-ED94530C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EB64E-CA3D-4483-9588-AE2D286A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215A1-CCF6-472A-809A-28214198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E3FA0-5B77-4430-8E5D-31C586DE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7BA71-CD47-4E6C-8BB6-A72ABB11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A1C98-7567-4619-8231-6D8D4F9C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C4086-CF11-42FB-AE2D-AC3F14D7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78CB6-B28F-40F7-8986-766391C8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F5E25-89DD-454A-97CD-0AD8F93A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C1035-46F8-474D-9FAC-D03DEB4A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1BA7-3BEA-4AD0-A84C-22D5F5F4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4B794-0FC3-4A1E-98BA-DBD32B4C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940FB-DD82-47A8-A9CA-811345C8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0421F-62F5-4949-A650-CD112620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5F503-0674-4C23-B8E8-6EF537D6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AA36E-1949-47EC-9C2E-21C3FAA9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A7521-D1B4-445F-8960-DFB86B81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3A8DE-A937-4927-BC6E-CEBD5524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2E5CF-6523-4B12-89C6-177BB1C0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29FBD-DE0C-4759-8662-7F8A39DD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89A18-2134-4DF2-9C79-2F8E45F4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B83-8FB9-4C73-8758-2697D06D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D9097-519C-47F4-8FC3-845D7371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763CC-301F-444E-B459-54CBCAF1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0036B-3DC0-463C-9054-74250BAB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7D757-7BF2-473A-B241-F90DDBE9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C19B9-4F76-422E-AEF9-80002F03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64D57-7FF4-44B6-A7D0-EA97D4F8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45D40-2637-4275-B461-02E9362E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B1DD5-3D61-400E-AA88-503C1885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5FA13-7FCF-4811-89A3-777363FF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B370B-EDDC-496D-8DDE-09D57685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CDEC-78D5-48C0-9EC6-FD633F0C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F35F4-D427-4C2D-A548-6FE5629E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D4E17-7669-4242-86EA-502A9C84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BD35E-2A89-49AF-8124-29E0ED92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72113-2DAF-47BD-99C9-6AA2EA01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66736-96FC-4E6E-999F-8B3369BD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154CD-06C0-4C22-99E2-2FBDC075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0E9A4-A30F-4B1A-A14C-0D18F62A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F6028-44EE-4EDF-9A57-648C6173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00F19-81ED-4400-AF1D-4D570A39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B981D-7A2D-49AF-832A-657412B6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390-F7A8-4466-84D0-7F400EB3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22583-38A7-41B4-95AA-BED38D87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C385D-35FE-4A46-BBAB-7B834899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7A856-C196-4E09-87A7-EAFC9F1A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E6DA9-A565-46A2-8203-78FD8DE6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AF0E3-12AB-4F50-951A-4D18E0EE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48FD5-0DD2-4CDE-A6A1-481A7229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7E168-73AE-40F0-A971-CEB49B40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E3B96-3D70-4F87-AE3A-3054E2E6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4FB24-4244-4AFE-BF7F-B5931880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1CE08-A212-498F-B687-036BE237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B70-3DBD-440F-B91A-96AC8A7C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7BDEB-33DC-4C58-8DC7-B7F83A6E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9D5D4-413B-43D1-B487-45273A98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9E438-A2BB-48F3-9E47-D3BD6B78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D810A-B4B8-412A-837D-E599A359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A155E-86CA-478C-A9A1-5CF3A262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1B9B2-74FB-4CA0-B8BA-4DF829B2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A69F9-681A-4E8A-A1BF-5FCA11D2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9F182-8801-44B7-9AA1-BF815AB0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6F701-CE6D-494C-AC2A-848081D4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324BC-B264-4831-81B0-96611FAB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F3A-4D9E-4A32-A335-E9FA31BE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0AAF2-E537-42DF-9F67-6A10FF7B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3FC49-C894-48B0-9350-04B45C3C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FAA08-D313-43E4-AABE-BBB20583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E3572-EC1B-4D04-9984-E7348775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3F165-B512-4E04-8715-D44FA4B3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671CE-6985-4795-B650-9868E1DD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5E3C4-A6C5-4BA9-AF09-F9782334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789CC-94A7-41DB-8169-5D19DFCA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6EBC2-E285-41E4-9C1A-E9FC63D0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B2A81-DA85-462E-8D2B-318968D3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25.xml"/><Relationship Id="rId32" Type="http://schemas.openxmlformats.org/officeDocument/2006/relationships/slideLayout" Target="../slideLayouts/slideLayout26.xml"/><Relationship Id="rId33" Type="http://schemas.openxmlformats.org/officeDocument/2006/relationships/slideLayout" Target="../slideLayouts/slideLayout27.xml"/><Relationship Id="rId34" Type="http://schemas.openxmlformats.org/officeDocument/2006/relationships/slideLayout" Target="../slideLayouts/slideLayout28.xml"/><Relationship Id="rId35" Type="http://schemas.openxmlformats.org/officeDocument/2006/relationships/slideLayout" Target="../slideLayouts/slideLayout29.xml"/><Relationship Id="rId36" Type="http://schemas.openxmlformats.org/officeDocument/2006/relationships/slideLayout" Target="../slideLayouts/slideLayout30.xml"/><Relationship Id="rId37" Type="http://schemas.openxmlformats.org/officeDocument/2006/relationships/slideLayout" Target="../slideLayouts/slideLayout31.xml"/><Relationship Id="rId38" Type="http://schemas.openxmlformats.org/officeDocument/2006/relationships/slideLayout" Target="../slideLayouts/slideLayout32.xml"/><Relationship Id="rId39" Type="http://schemas.openxmlformats.org/officeDocument/2006/relationships/slideLayout" Target="../slideLayouts/slideLayout33.xml"/><Relationship Id="rId40" Type="http://schemas.openxmlformats.org/officeDocument/2006/relationships/slideLayout" Target="../slideLayouts/slideLayout34.xml"/><Relationship Id="rId41" Type="http://schemas.openxmlformats.org/officeDocument/2006/relationships/slideLayout" Target="../slideLayouts/slideLayout35.xml"/><Relationship Id="rId4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6CB9-A5E2-4520-9654-C16E9838A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8A55-E1CB-444B-AA31-F642B11ED7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F59C-14F2-4203-9569-F8C2C9A884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1"/>
    <p:sldLayoutId id="2147483676" r:id="rId32"/>
    <p:sldLayoutId id="2147483677" r:id="rId33"/>
    <p:sldLayoutId id="2147483678" r:id="rId34"/>
    <p:sldLayoutId id="2147483679" r:id="rId35"/>
    <p:sldLayoutId id="2147483680" r:id="rId36"/>
    <p:sldLayoutId id="2147483681" r:id="rId37"/>
    <p:sldLayoutId id="2147483682" r:id="rId38"/>
    <p:sldLayoutId id="2147483683" r:id="rId39"/>
    <p:sldLayoutId id="2147483684" r:id="rId40"/>
    <p:sldLayoutId id="2147483685" r:id="rId41"/>
    <p:sldLayoutId id="2147483686" r:id="rId4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23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3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4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4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5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5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5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5432-AEF5-42BF-88D9-AC797F9DAB2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31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31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33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33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4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4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4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9B14-B6D3-4744-8A00-8114FEEF2B2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9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0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0E90-24CA-4C97-9D8C-86E946A9BF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4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4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45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19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0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86DE-8D34-4883-9B6B-0D2386FE79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95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4034-5CBB-4055-B19F-6BBDBDA353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2C3F-FAED-4A66-8F75-9C02575FFC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marL="407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a piece of blank paper to create your own “Piece of the Pie” foldabl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228600" y="1066680"/>
          <a:ext cx="8686800" cy="5486400"/>
        </p:xfrm>
        <a:graphic>
          <a:graphicData uri="http://schemas.openxmlformats.org/drawingml/2006/table">
            <a:tbl>
              <a:tblPr/>
              <a:tblGrid>
                <a:gridCol w="4352400"/>
                <a:gridCol w="4334400"/>
              </a:tblGrid>
              <a:tr h="280368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Six-Step-Start-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Analyze the Que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8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Mark the Tex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50/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3124080" y="2514600"/>
            <a:ext cx="2895840" cy="22860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424240" y="3369960"/>
            <a:ext cx="403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Test Pr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Six-Step-Start-Up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7848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1311"/>
                </a:solidFill>
                <a:latin typeface="Arial"/>
              </a:rPr>
              <a:t>Step 1: </a:t>
            </a:r>
            <a:r>
              <a:rPr b="0" lang="en-US" sz="3800" spc="-1" strike="noStrike">
                <a:solidFill>
                  <a:srgbClr val="2f1311"/>
                </a:solidFill>
                <a:latin typeface="Arial"/>
              </a:rPr>
              <a:t>Skim the title</a:t>
            </a:r>
            <a:endParaRPr b="0" lang="en-US" sz="3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1311"/>
                </a:solidFill>
                <a:latin typeface="Arial"/>
              </a:rPr>
              <a:t>Step 2:</a:t>
            </a:r>
            <a:r>
              <a:rPr b="0" lang="en-US" sz="3800" spc="-1" strike="noStrike">
                <a:solidFill>
                  <a:srgbClr val="2f1311"/>
                </a:solidFill>
                <a:latin typeface="Arial"/>
              </a:rPr>
              <a:t> Make Prediction</a:t>
            </a:r>
            <a:endParaRPr b="0" lang="en-US" sz="3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9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1311"/>
                </a:solidFill>
                <a:latin typeface="Arial"/>
              </a:rPr>
              <a:t>Step 3:</a:t>
            </a:r>
            <a:r>
              <a:rPr b="0" lang="en-US" sz="3800" spc="-1" strike="noStrike">
                <a:solidFill>
                  <a:srgbClr val="2f1311"/>
                </a:solidFill>
                <a:latin typeface="Arial"/>
              </a:rPr>
              <a:t> Read 1</a:t>
            </a:r>
            <a:r>
              <a:rPr b="0" lang="en-US" sz="3800" spc="-1" strike="noStrike" baseline="30000">
                <a:solidFill>
                  <a:srgbClr val="2f1311"/>
                </a:solidFill>
                <a:latin typeface="Arial"/>
              </a:rPr>
              <a:t>st</a:t>
            </a:r>
            <a:r>
              <a:rPr b="0" lang="en-US" sz="3800" spc="-1" strike="noStrike">
                <a:solidFill>
                  <a:srgbClr val="2f1311"/>
                </a:solidFill>
                <a:latin typeface="Arial"/>
              </a:rPr>
              <a:t> &amp; last pars. or 1</a:t>
            </a:r>
            <a:r>
              <a:rPr b="0" lang="en-US" sz="3800" spc="-1" strike="noStrike" baseline="30000">
                <a:solidFill>
                  <a:srgbClr val="2f1311"/>
                </a:solidFill>
                <a:latin typeface="Arial"/>
              </a:rPr>
              <a:t>st</a:t>
            </a:r>
            <a:r>
              <a:rPr b="0" lang="en-US" sz="38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3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f1311"/>
                </a:solidFill>
                <a:latin typeface="Arial"/>
              </a:rPr>
              <a:t>               </a:t>
            </a:r>
            <a:r>
              <a:rPr b="0" lang="en-US" sz="3800" spc="-1" strike="noStrike">
                <a:solidFill>
                  <a:srgbClr val="2f1311"/>
                </a:solidFill>
                <a:latin typeface="Arial"/>
              </a:rPr>
              <a:t>&amp; last sentences</a:t>
            </a:r>
            <a:endParaRPr b="0" lang="en-US" sz="3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9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1311"/>
                </a:solidFill>
                <a:latin typeface="Arial"/>
              </a:rPr>
              <a:t>Step 4:</a:t>
            </a:r>
            <a:r>
              <a:rPr b="0" lang="en-US" sz="3800" spc="-1" strike="noStrike">
                <a:solidFill>
                  <a:srgbClr val="2f1311"/>
                </a:solidFill>
                <a:latin typeface="Arial"/>
              </a:rPr>
              <a:t> Make new prediction based on new info</a:t>
            </a:r>
            <a:endParaRPr b="0" lang="en-US" sz="3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9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1311"/>
                </a:solidFill>
                <a:latin typeface="Arial"/>
              </a:rPr>
              <a:t>Step 5:</a:t>
            </a:r>
            <a:r>
              <a:rPr b="0" lang="en-US" sz="3800" spc="-1" strike="noStrike">
                <a:solidFill>
                  <a:srgbClr val="2f1311"/>
                </a:solidFill>
                <a:latin typeface="Arial"/>
              </a:rPr>
              <a:t> Scan question stems</a:t>
            </a:r>
            <a:endParaRPr b="0" lang="en-US" sz="3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9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1311"/>
                </a:solidFill>
                <a:latin typeface="Arial"/>
              </a:rPr>
              <a:t>Step 6:</a:t>
            </a:r>
            <a:r>
              <a:rPr b="0" lang="en-US" sz="3800" spc="-1" strike="noStrike">
                <a:solidFill>
                  <a:srgbClr val="2f1311"/>
                </a:solidFill>
                <a:latin typeface="Arial"/>
              </a:rPr>
              <a:t> Make final prediction</a:t>
            </a:r>
            <a:endParaRPr b="0" lang="en-US" sz="3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Analyze the Quest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.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Underlin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Main Topic of the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Question (MTQ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ircle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egative words  (not, no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efixes meaning no, etc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.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ouble underlin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qualifying word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(Best, Most, Leas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4.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Question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the Question: Thi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question is asking me to (use verb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5.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rain Dump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 What do I know about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s topi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277920"/>
            <a:ext cx="80010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rk the Tex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paragraph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ircle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ey words or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Underline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the passages that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re relevant to the questions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ing ask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50/5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reading the passage, reread the question and answers, then eliminate two answers that do not sound right, do not make sense, or do not f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9:06:32Z</dcterms:created>
  <dc:creator>Nvasquez</dc:creator>
  <dc:description/>
  <dc:language>en-US</dc:language>
  <cp:lastModifiedBy>Nvasquez</cp:lastModifiedBy>
  <dcterms:modified xsi:type="dcterms:W3CDTF">2010-03-08T15:46:30Z</dcterms:modified>
  <cp:revision>8</cp:revision>
  <dc:subject/>
  <dc:title>Use a piece of blank paper to create your own “Piece of the Pie” foldable. </dc:title>
</cp:coreProperties>
</file>